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C3A0B-521E-47C5-AF84-AAB0192F1B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98D01-2E9A-4B09-A785-80F4FDB947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A036A-31A6-400D-AF29-DEBFB081D6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4AA5C-8ACC-4E49-B30C-1D80B4317C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FB5D7-7198-49D7-8012-255665766F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B4982-3643-4EA0-B266-C303C5F211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B2C6A-49CC-454C-872A-C6782F7BF4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890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64B3D-E526-41A4-BD4B-2757E4EC8A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1426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1426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890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890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BDD8F-8B58-482C-8664-B7592C28AA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FB920-C56F-4B8A-A8BF-958087961D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AAF23-0003-4227-A5BB-C2D522E58D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2CF49-7A39-4BE7-A196-4E44BB94AC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EF5BF-E93A-487B-90F1-8A0952A382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2F9DE-2C33-4D33-9C0E-9B4F3487C2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A608C-20D2-493C-AD97-3EE69317F4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890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2746D-76FF-4470-BB33-D9F1C8316F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03255-AF72-4612-BD94-F461A1C363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788D1-2CDE-4B7C-B243-5937FBEE2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0"/>
            <a:ext cx="9144000" cy="76320"/>
            <a:chOff x="0" y="0"/>
            <a:chExt cx="9144000" cy="76320"/>
          </a:xfrm>
        </p:grpSpPr>
        <p:pic>
          <p:nvPicPr>
            <p:cNvPr id="5" name="" descr=""/>
            <p:cNvPicPr/>
            <p:nvPr/>
          </p:nvPicPr>
          <p:blipFill>
            <a:blip r:embed="rId2"/>
            <a:srcRect l="0" t="0" r="18553" b="0"/>
            <a:stretch/>
          </p:blipFill>
          <p:spPr>
            <a:xfrm>
              <a:off x="3121200" y="0"/>
              <a:ext cx="6022800" cy="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3124080" cy="763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248520" y="609480"/>
            <a:ext cx="2895480" cy="24246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ocess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ReadSent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uration d: 11 sec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P(Process = ReadS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P(Offset times): </a:t>
            </a: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Response signature W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12810" t="81133" r="64669" b="0"/>
          <a:stretch/>
        </p:blipFill>
        <p:spPr>
          <a:xfrm>
            <a:off x="1752480" y="6095880"/>
            <a:ext cx="5715000" cy="304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rcRect l="12840" t="19277" r="64539" b="67097"/>
          <a:stretch/>
        </p:blipFill>
        <p:spPr>
          <a:xfrm>
            <a:off x="1752480" y="5486400"/>
            <a:ext cx="5677200" cy="414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133720" y="3657600"/>
            <a:ext cx="140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71800" y="403848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441972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276720"/>
            <a:ext cx="182880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figuration C of Process Instances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msy10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… </a:t>
            </a:r>
            <a:r>
              <a:rPr b="1" lang="en-US" sz="2000" spc="-1" strike="noStrike">
                <a:solidFill>
                  <a:srgbClr val="000000"/>
                </a:solidFill>
                <a:latin typeface="cmsy10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5029200"/>
            <a:ext cx="21337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bserved data 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52280" y="5486400"/>
            <a:ext cx="112896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5105520" y="365760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8580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put Stimulu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48520" y="3276720"/>
            <a:ext cx="27432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467480" y="26798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543800" y="2362320"/>
            <a:ext cx="1219320" cy="431640"/>
          </a:xfrm>
          <a:custGeom>
            <a:avLst/>
            <a:gdLst/>
            <a:ahLst/>
            <a:rect l="l" t="t" r="r" b="b"/>
            <a:pathLst>
              <a:path w="768" h="272">
                <a:moveTo>
                  <a:pt x="0" y="152"/>
                </a:moveTo>
                <a:cubicBezTo>
                  <a:pt x="32" y="212"/>
                  <a:pt x="64" y="272"/>
                  <a:pt x="144" y="248"/>
                </a:cubicBezTo>
                <a:cubicBezTo>
                  <a:pt x="224" y="224"/>
                  <a:pt x="376" y="16"/>
                  <a:pt x="480" y="8"/>
                </a:cubicBezTo>
                <a:cubicBezTo>
                  <a:pt x="584" y="0"/>
                  <a:pt x="676" y="100"/>
                  <a:pt x="768" y="20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2374920"/>
            <a:ext cx="1219320" cy="304920"/>
          </a:xfrm>
          <a:custGeom>
            <a:avLst/>
            <a:gdLst/>
            <a:ahLst/>
            <a:rect l="l" t="t" r="r" b="b"/>
            <a:pathLst>
              <a:path w="768" h="192">
                <a:moveTo>
                  <a:pt x="0" y="192"/>
                </a:moveTo>
                <a:cubicBezTo>
                  <a:pt x="80" y="96"/>
                  <a:pt x="160" y="0"/>
                  <a:pt x="288" y="0"/>
                </a:cubicBezTo>
                <a:cubicBezTo>
                  <a:pt x="416" y="0"/>
                  <a:pt x="592" y="96"/>
                  <a:pt x="768" y="192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0" y="3276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952880" y="3276720"/>
            <a:ext cx="762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33640" y="4772160"/>
            <a:ext cx="457200" cy="533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4038480"/>
            <a:ext cx="0" cy="7621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3657600"/>
            <a:ext cx="0" cy="1143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971800" y="4800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-1800" y="2085840"/>
            <a:ext cx="164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im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ndmark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25840" y="2400480"/>
            <a:ext cx="63468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¢</a:t>
            </a:r>
            <a:r>
              <a:rPr b="1" lang="en-US" sz="20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05120" y="2666880"/>
            <a:ext cx="15228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19520" y="2666880"/>
            <a:ext cx="1522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19520" y="2666880"/>
            <a:ext cx="76176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19000" y="2438280"/>
            <a:ext cx="606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msy10"/>
              </a:rPr>
              <a:t>¢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47880" y="2438280"/>
            <a:ext cx="606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msy10"/>
              </a:rPr>
              <a:t>¢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23880" y="556272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3880" y="617220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35200" y="5867280"/>
            <a:ext cx="75960" cy="76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5200" y="6248520"/>
            <a:ext cx="7596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352680" y="3657600"/>
            <a:ext cx="609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248520" y="3124080"/>
            <a:ext cx="274320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ocess instance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Process h: ReadSent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iming landmark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Offset time O: 1 s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Start tim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+ 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248520" y="762120"/>
            <a:ext cx="2743200" cy="213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05120" y="8380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905120" y="8380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3880" y="533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nt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14600" y="762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533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nt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19520" y="10666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724280" y="8380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819520" y="10663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4724280" y="8380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57400" y="3657600"/>
            <a:ext cx="140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57600" y="4038480"/>
            <a:ext cx="1066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2666880"/>
            <a:ext cx="38124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62240" y="5286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idden Process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19800" y="228600"/>
            <a:ext cx="24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Red </a:t>
            </a:r>
            <a:r>
              <a:rPr b="1" lang="en-US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to be lear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The HPM Graphical Mode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761760"/>
            <a:ext cx="8686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stically generate dat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,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a configuration of N process instanc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..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1600200"/>
            <a:ext cx="80773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819520"/>
            <a:ext cx="228600" cy="228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19320" y="2286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243828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981080" y="3048120"/>
            <a:ext cx="6098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47920" y="3505320"/>
            <a:ext cx="1295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fset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5029200"/>
            <a:ext cx="1600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ibution to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t,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5105520"/>
            <a:ext cx="228600" cy="228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95280" y="25146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67080" y="59436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5943600"/>
            <a:ext cx="2895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d 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t,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743200" y="5334120"/>
            <a:ext cx="1523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95280" y="1981080"/>
            <a:ext cx="228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mulus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43200" y="2514600"/>
            <a:ext cx="1905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Type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66880" y="30481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495320" y="541008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685800" y="4724280"/>
            <a:ext cx="7391520" cy="1861560"/>
            <a:chOff x="685800" y="4724280"/>
            <a:chExt cx="7391520" cy="1861560"/>
          </a:xfrm>
        </p:grpSpPr>
        <p:sp>
          <p:nvSpPr>
            <p:cNvPr id="119" name=""/>
            <p:cNvSpPr/>
            <p:nvPr/>
          </p:nvSpPr>
          <p:spPr>
            <a:xfrm>
              <a:off x="685800" y="4724280"/>
              <a:ext cx="6934320" cy="182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172200" y="6248520"/>
              <a:ext cx="190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oxel v, time 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143000" y="3809880"/>
            <a:ext cx="228600" cy="228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371600" y="35053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52480" y="3352680"/>
            <a:ext cx="228600" cy="228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95280" y="4038480"/>
            <a:ext cx="121932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038480"/>
            <a:ext cx="1600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Time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72200" y="2895480"/>
            <a:ext cx="228600" cy="228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00600" y="23623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29200" y="25146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5562360" y="3124080"/>
            <a:ext cx="6094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029200" y="3581280"/>
            <a:ext cx="1295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fset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4952880"/>
            <a:ext cx="1600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ibution to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t,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5880" y="5181480"/>
            <a:ext cx="228600" cy="228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76920" y="25909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76920" y="2057400"/>
            <a:ext cx="228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mulus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48520" y="31240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3886200"/>
            <a:ext cx="228600" cy="228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4952880" y="35812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429000"/>
            <a:ext cx="228600" cy="228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76920" y="4114800"/>
            <a:ext cx="121896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81280" y="4114800"/>
            <a:ext cx="1600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Time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24480" y="2666880"/>
            <a:ext cx="19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Type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15200" y="13716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15200" y="1752480"/>
            <a:ext cx="228600" cy="228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4520" y="12193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55680" y="160020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obser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HPM Generative Model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stically generate data using a configuration of n process instances with known timing landmarks {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}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 a configurati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n process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i=1 to n, generate process instanc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e a proces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ccording to P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e a time offset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ccording to P(O|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 all observed fMRI dat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ive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286000" y="5257800"/>
            <a:ext cx="4464000" cy="3286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514600" y="5867280"/>
            <a:ext cx="426708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General Linear Model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matrix’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scribes timing of processes (for [Dale 1999], this is the stimulus tim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= X h +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3040" y="3962520"/>
            <a:ext cx="26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ations Tx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9040" y="487692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matri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404760" y="396252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ussian 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43400" y="480060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e signatures for all stimu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981080" y="365760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3657600" y="3657240"/>
            <a:ext cx="7632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4114440" y="3580920"/>
            <a:ext cx="1143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4876560" y="3504960"/>
            <a:ext cx="1447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5791320"/>
            <a:ext cx="838224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PM’s correspond to making X an unobserved random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92760" y="380880"/>
            <a:ext cx="2949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Dale, HBM 1999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04920" y="-30492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371600" y="228600"/>
            <a:ext cx="80773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362320" y="76212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133720" y="3049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990720"/>
            <a:ext cx="1295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fset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7162920"/>
            <a:ext cx="1600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ibution to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t,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62320" y="7238880"/>
            <a:ext cx="228600" cy="228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80773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6095880"/>
            <a:ext cx="25146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dicted mean o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 tim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90920" y="7467480"/>
            <a:ext cx="15238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81080" y="0"/>
            <a:ext cx="3429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mulusType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14600" y="609480"/>
            <a:ext cx="1905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Type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343040" y="754380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533520" y="6858000"/>
            <a:ext cx="7390800" cy="1861200"/>
            <a:chOff x="533520" y="6858000"/>
            <a:chExt cx="7390800" cy="1861200"/>
          </a:xfrm>
        </p:grpSpPr>
        <p:sp>
          <p:nvSpPr>
            <p:cNvPr id="176" name=""/>
            <p:cNvSpPr/>
            <p:nvPr/>
          </p:nvSpPr>
          <p:spPr>
            <a:xfrm>
              <a:off x="533520" y="6858000"/>
              <a:ext cx="6933960" cy="182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19560" y="8381880"/>
              <a:ext cx="190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oxel v, time 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1066680" y="190512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752480" y="129528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-152280" y="2057400"/>
            <a:ext cx="1600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Time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7086600"/>
            <a:ext cx="1600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ibution to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t,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943600" y="7315200"/>
            <a:ext cx="228600" cy="228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477120" y="0"/>
            <a:ext cx="228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mulusType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10280" y="13716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010280" y="175248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239600" y="12193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50760" y="160020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obser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48320" y="3352680"/>
            <a:ext cx="3352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5181480" y="2209320"/>
            <a:ext cx="1067040" cy="1143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248520" y="2209680"/>
            <a:ext cx="1143000" cy="1143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00800" y="4114800"/>
            <a:ext cx="274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6781680" y="34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8991720" y="34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781680" y="3429000"/>
            <a:ext cx="2210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76920" y="5943600"/>
            <a:ext cx="4267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5181480" y="4800240"/>
            <a:ext cx="106704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8991720" y="5257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81680" y="46483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81680" y="4648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248520" y="4800600"/>
            <a:ext cx="5331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391520" y="5257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429000"/>
            <a:ext cx="76320" cy="7621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086600" y="3048120"/>
            <a:ext cx="0" cy="1143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934320" y="4191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86600" y="4648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934320" y="4191120"/>
            <a:ext cx="3808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0"/>
            <a:ext cx="3429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mulusTime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9480" y="3049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95680" y="0"/>
            <a:ext cx="228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mulusTime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95280" y="29718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4"/>
            <a:endCxn id="178" idx="0"/>
          </p:cNvCxnSpPr>
          <p:nvPr/>
        </p:nvCxnSpPr>
        <p:spPr>
          <a:xfrm>
            <a:off x="723960" y="533520"/>
            <a:ext cx="45792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"/>
          <p:cNvCxnSpPr>
            <a:stCxn id="165" idx="5"/>
            <a:endCxn id="164" idx="0"/>
          </p:cNvCxnSpPr>
          <p:nvPr/>
        </p:nvCxnSpPr>
        <p:spPr>
          <a:xfrm>
            <a:off x="2328840" y="500040"/>
            <a:ext cx="148320" cy="262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3" name=""/>
          <p:cNvCxnSpPr>
            <a:stCxn id="164" idx="3"/>
            <a:endCxn id="179" idx="7"/>
          </p:cNvCxnSpPr>
          <p:nvPr/>
        </p:nvCxnSpPr>
        <p:spPr>
          <a:xfrm flipH="1">
            <a:off x="1947240" y="957240"/>
            <a:ext cx="44820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"/>
          <p:cNvCxnSpPr>
            <a:stCxn id="179" idx="3"/>
            <a:endCxn id="178" idx="7"/>
          </p:cNvCxnSpPr>
          <p:nvPr/>
        </p:nvCxnSpPr>
        <p:spPr>
          <a:xfrm flipH="1">
            <a:off x="1261800" y="1490400"/>
            <a:ext cx="524160" cy="44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"/>
          <p:cNvCxnSpPr>
            <a:stCxn id="178" idx="6"/>
            <a:endCxn id="210" idx="1"/>
          </p:cNvCxnSpPr>
          <p:nvPr/>
        </p:nvCxnSpPr>
        <p:spPr>
          <a:xfrm>
            <a:off x="1294920" y="2018880"/>
            <a:ext cx="34200" cy="98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6781680" y="76212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553080" y="3049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57800" y="990720"/>
            <a:ext cx="1295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fset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486400" y="190512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172200" y="129528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114800" y="1752480"/>
            <a:ext cx="1447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Time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029200" y="3049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3" name=""/>
          <p:cNvCxnSpPr>
            <a:stCxn id="222" idx="4"/>
            <a:endCxn id="219" idx="0"/>
          </p:cNvCxnSpPr>
          <p:nvPr/>
        </p:nvCxnSpPr>
        <p:spPr>
          <a:xfrm>
            <a:off x="5143680" y="533520"/>
            <a:ext cx="45792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4" name=""/>
          <p:cNvCxnSpPr>
            <a:stCxn id="217" idx="5"/>
            <a:endCxn id="216" idx="0"/>
          </p:cNvCxnSpPr>
          <p:nvPr/>
        </p:nvCxnSpPr>
        <p:spPr>
          <a:xfrm>
            <a:off x="6748560" y="500040"/>
            <a:ext cx="148320" cy="262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5" name=""/>
          <p:cNvCxnSpPr>
            <a:stCxn id="216" idx="3"/>
            <a:endCxn id="220" idx="7"/>
          </p:cNvCxnSpPr>
          <p:nvPr/>
        </p:nvCxnSpPr>
        <p:spPr>
          <a:xfrm flipH="1">
            <a:off x="6366960" y="957240"/>
            <a:ext cx="44856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" name=""/>
          <p:cNvCxnSpPr>
            <a:stCxn id="220" idx="3"/>
            <a:endCxn id="219" idx="7"/>
          </p:cNvCxnSpPr>
          <p:nvPr/>
        </p:nvCxnSpPr>
        <p:spPr>
          <a:xfrm flipH="1">
            <a:off x="5681160" y="1490400"/>
            <a:ext cx="524880" cy="44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19" idx="3"/>
            <a:endCxn id="228" idx="0"/>
          </p:cNvCxnSpPr>
          <p:nvPr/>
        </p:nvCxnSpPr>
        <p:spPr>
          <a:xfrm flipH="1">
            <a:off x="3009600" y="2099880"/>
            <a:ext cx="2510640" cy="186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1828800" y="29718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362320" y="29718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95480" y="29718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429000" y="29718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2514600"/>
            <a:ext cx="129528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ibution to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er tim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95480" y="396252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429000" y="396252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962520" y="396252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495680" y="396252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029200" y="396252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3657600"/>
            <a:ext cx="137160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ibution to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er tim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5029200"/>
            <a:ext cx="1295280" cy="97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ed value o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er 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71600" y="53341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905120" y="53341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438280" y="53341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971800" y="53341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429000" y="53341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53341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495680" y="53341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029200" y="53341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"/>
          <p:cNvCxnSpPr>
            <a:stCxn id="210" idx="4"/>
            <a:endCxn id="240" idx="0"/>
          </p:cNvCxnSpPr>
          <p:nvPr/>
        </p:nvCxnSpPr>
        <p:spPr>
          <a:xfrm>
            <a:off x="1409760" y="3200040"/>
            <a:ext cx="76680" cy="2134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9" name=""/>
          <p:cNvCxnSpPr>
            <a:stCxn id="229" idx="4"/>
            <a:endCxn id="241" idx="0"/>
          </p:cNvCxnSpPr>
          <p:nvPr/>
        </p:nvCxnSpPr>
        <p:spPr>
          <a:xfrm>
            <a:off x="1942920" y="3200040"/>
            <a:ext cx="76680" cy="2134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" name=""/>
          <p:cNvCxnSpPr>
            <a:stCxn id="230" idx="4"/>
            <a:endCxn id="242" idx="0"/>
          </p:cNvCxnSpPr>
          <p:nvPr/>
        </p:nvCxnSpPr>
        <p:spPr>
          <a:xfrm>
            <a:off x="2476440" y="3200040"/>
            <a:ext cx="76680" cy="2134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1" name=""/>
          <p:cNvCxnSpPr>
            <a:stCxn id="231" idx="3"/>
            <a:endCxn id="243" idx="2"/>
          </p:cNvCxnSpPr>
          <p:nvPr/>
        </p:nvCxnSpPr>
        <p:spPr>
          <a:xfrm flipH="1" rot="16200000">
            <a:off x="1808640" y="4285800"/>
            <a:ext cx="2282040" cy="43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2" name=""/>
          <p:cNvCxnSpPr>
            <a:stCxn id="228" idx="5"/>
            <a:endCxn id="243" idx="0"/>
          </p:cNvCxnSpPr>
          <p:nvPr/>
        </p:nvCxnSpPr>
        <p:spPr>
          <a:xfrm flipH="1">
            <a:off x="3085560" y="4157640"/>
            <a:ext cx="5400" cy="117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3" name=""/>
          <p:cNvCxnSpPr>
            <a:stCxn id="234" idx="5"/>
            <a:endCxn id="244" idx="7"/>
          </p:cNvCxnSpPr>
          <p:nvPr/>
        </p:nvCxnSpPr>
        <p:spPr>
          <a:xfrm>
            <a:off x="3623760" y="4157640"/>
            <a:ext cx="1080" cy="1210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stCxn id="232" idx="6"/>
            <a:endCxn id="244" idx="6"/>
          </p:cNvCxnSpPr>
          <p:nvPr/>
        </p:nvCxnSpPr>
        <p:spPr>
          <a:xfrm>
            <a:off x="3657600" y="3085920"/>
            <a:ext cx="2160" cy="2362680"/>
          </a:xfrm>
          <a:prstGeom prst="curvedConnector5">
            <a:avLst>
              <a:gd name="adj1" fmla="val 14400000"/>
              <a:gd name="adj2" fmla="val 50000"/>
              <a:gd name="adj3" fmla="val 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stCxn id="235" idx="4"/>
            <a:endCxn id="245" idx="0"/>
          </p:cNvCxnSpPr>
          <p:nvPr/>
        </p:nvCxnSpPr>
        <p:spPr>
          <a:xfrm>
            <a:off x="4076280" y="4190760"/>
            <a:ext cx="108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6" name=""/>
          <p:cNvCxnSpPr>
            <a:stCxn id="236" idx="4"/>
            <a:endCxn id="246" idx="0"/>
          </p:cNvCxnSpPr>
          <p:nvPr/>
        </p:nvCxnSpPr>
        <p:spPr>
          <a:xfrm>
            <a:off x="4609800" y="4190760"/>
            <a:ext cx="108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"/>
          <p:cNvCxnSpPr>
            <a:stCxn id="237" idx="4"/>
            <a:endCxn id="247" idx="0"/>
          </p:cNvCxnSpPr>
          <p:nvPr/>
        </p:nvCxnSpPr>
        <p:spPr>
          <a:xfrm>
            <a:off x="5143320" y="4190760"/>
            <a:ext cx="108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8" name=""/>
          <p:cNvSpPr/>
          <p:nvPr/>
        </p:nvSpPr>
        <p:spPr>
          <a:xfrm>
            <a:off x="6858000" y="1143000"/>
            <a:ext cx="213372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304920" y="-30492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905120" y="228600"/>
            <a:ext cx="80769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362320" y="76212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133720" y="3049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38080" y="914400"/>
            <a:ext cx="129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fset(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38080" y="6400800"/>
            <a:ext cx="3733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ed mean of Y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133720" y="0"/>
            <a:ext cx="2133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mulusType(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514600" y="609480"/>
            <a:ext cx="2209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Type(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066680" y="190512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752480" y="129528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-228600" y="2057400"/>
            <a:ext cx="1981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Time(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477120" y="0"/>
            <a:ext cx="2286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mulusType(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315200" y="16812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315200" y="206208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542720" y="1574640"/>
            <a:ext cx="123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553520" y="1955880"/>
            <a:ext cx="151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733920" y="5195880"/>
            <a:ext cx="4495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4267080" y="4662360"/>
            <a:ext cx="99072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257800" y="4662360"/>
            <a:ext cx="121932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733920" y="5791320"/>
            <a:ext cx="4495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638680" y="54097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7848720" y="54097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638680" y="5410080"/>
            <a:ext cx="2210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791320" y="5410080"/>
            <a:ext cx="4572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91320" y="4890960"/>
            <a:ext cx="533160" cy="1052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172200" y="5867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172200" y="5943600"/>
            <a:ext cx="38088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0"/>
            <a:ext cx="2286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mulusTime(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3049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343400" y="0"/>
            <a:ext cx="2362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mulusTime(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7" idx="4"/>
            <a:endCxn id="267" idx="0"/>
          </p:cNvCxnSpPr>
          <p:nvPr/>
        </p:nvCxnSpPr>
        <p:spPr>
          <a:xfrm>
            <a:off x="723960" y="533520"/>
            <a:ext cx="45792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"/>
          <p:cNvCxnSpPr>
            <a:stCxn id="262" idx="5"/>
            <a:endCxn id="261" idx="0"/>
          </p:cNvCxnSpPr>
          <p:nvPr/>
        </p:nvCxnSpPr>
        <p:spPr>
          <a:xfrm>
            <a:off x="2328840" y="500040"/>
            <a:ext cx="148320" cy="262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1" name=""/>
          <p:cNvCxnSpPr>
            <a:stCxn id="261" idx="3"/>
            <a:endCxn id="268" idx="7"/>
          </p:cNvCxnSpPr>
          <p:nvPr/>
        </p:nvCxnSpPr>
        <p:spPr>
          <a:xfrm flipH="1">
            <a:off x="1947240" y="957240"/>
            <a:ext cx="44820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2" name=""/>
          <p:cNvCxnSpPr>
            <a:stCxn id="268" idx="3"/>
            <a:endCxn id="267" idx="7"/>
          </p:cNvCxnSpPr>
          <p:nvPr/>
        </p:nvCxnSpPr>
        <p:spPr>
          <a:xfrm flipH="1">
            <a:off x="1261800" y="1490400"/>
            <a:ext cx="524160" cy="44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3" name=""/>
          <p:cNvSpPr/>
          <p:nvPr/>
        </p:nvSpPr>
        <p:spPr>
          <a:xfrm>
            <a:off x="6781680" y="76212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553080" y="3049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257800" y="914400"/>
            <a:ext cx="1295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fset(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486400" y="190512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172200" y="129528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09880" y="2057400"/>
            <a:ext cx="1905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Time(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029200" y="3049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0" name=""/>
          <p:cNvCxnSpPr>
            <a:stCxn id="299" idx="4"/>
            <a:endCxn id="296" idx="0"/>
          </p:cNvCxnSpPr>
          <p:nvPr/>
        </p:nvCxnSpPr>
        <p:spPr>
          <a:xfrm>
            <a:off x="5143680" y="533520"/>
            <a:ext cx="45792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1" name=""/>
          <p:cNvCxnSpPr>
            <a:stCxn id="294" idx="5"/>
            <a:endCxn id="293" idx="0"/>
          </p:cNvCxnSpPr>
          <p:nvPr/>
        </p:nvCxnSpPr>
        <p:spPr>
          <a:xfrm>
            <a:off x="6748560" y="500040"/>
            <a:ext cx="148320" cy="262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2" name=""/>
          <p:cNvCxnSpPr>
            <a:stCxn id="293" idx="3"/>
            <a:endCxn id="297" idx="7"/>
          </p:cNvCxnSpPr>
          <p:nvPr/>
        </p:nvCxnSpPr>
        <p:spPr>
          <a:xfrm flipH="1">
            <a:off x="6366960" y="957240"/>
            <a:ext cx="44856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3" name=""/>
          <p:cNvCxnSpPr>
            <a:stCxn id="297" idx="3"/>
            <a:endCxn id="296" idx="7"/>
          </p:cNvCxnSpPr>
          <p:nvPr/>
        </p:nvCxnSpPr>
        <p:spPr>
          <a:xfrm flipH="1">
            <a:off x="5681160" y="1490400"/>
            <a:ext cx="524880" cy="44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3733920" y="6796080"/>
            <a:ext cx="4495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4267080" y="6262560"/>
            <a:ext cx="99072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5638680" y="603360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638680" y="6033960"/>
            <a:ext cx="83844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477120" y="6415200"/>
            <a:ext cx="1371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257800" y="6262560"/>
            <a:ext cx="38088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7848720" y="6415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38080" y="2590920"/>
            <a:ext cx="167652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ibution to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t,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362320" y="281952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114800" y="36576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00200" y="3581280"/>
            <a:ext cx="289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ed 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t,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172200" y="2590920"/>
            <a:ext cx="175248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ibution to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t,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943600" y="289548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7" name=""/>
          <p:cNvCxnSpPr>
            <a:stCxn id="267" idx="6"/>
            <a:endCxn id="312" idx="1"/>
          </p:cNvCxnSpPr>
          <p:nvPr/>
        </p:nvCxnSpPr>
        <p:spPr>
          <a:xfrm>
            <a:off x="1295280" y="2018880"/>
            <a:ext cx="1100880" cy="83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8" name=""/>
          <p:cNvCxnSpPr>
            <a:stCxn id="261" idx="4"/>
            <a:endCxn id="312" idx="0"/>
          </p:cNvCxnSpPr>
          <p:nvPr/>
        </p:nvCxnSpPr>
        <p:spPr>
          <a:xfrm>
            <a:off x="2476080" y="990720"/>
            <a:ext cx="1080" cy="182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9" name=""/>
          <p:cNvCxnSpPr>
            <a:stCxn id="296" idx="4"/>
            <a:endCxn id="316" idx="0"/>
          </p:cNvCxnSpPr>
          <p:nvPr/>
        </p:nvCxnSpPr>
        <p:spPr>
          <a:xfrm>
            <a:off x="5600880" y="2133720"/>
            <a:ext cx="45792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0" name=""/>
          <p:cNvCxnSpPr>
            <a:stCxn id="293" idx="4"/>
            <a:endCxn id="316" idx="7"/>
          </p:cNvCxnSpPr>
          <p:nvPr/>
        </p:nvCxnSpPr>
        <p:spPr>
          <a:xfrm flipH="1">
            <a:off x="6138360" y="990720"/>
            <a:ext cx="758160" cy="193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1" name=""/>
          <p:cNvCxnSpPr>
            <a:stCxn id="312" idx="5"/>
            <a:endCxn id="313" idx="1"/>
          </p:cNvCxnSpPr>
          <p:nvPr/>
        </p:nvCxnSpPr>
        <p:spPr>
          <a:xfrm>
            <a:off x="2557080" y="3014280"/>
            <a:ext cx="1591560" cy="677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"/>
          <p:cNvCxnSpPr>
            <a:stCxn id="316" idx="3"/>
            <a:endCxn id="313" idx="7"/>
          </p:cNvCxnSpPr>
          <p:nvPr/>
        </p:nvCxnSpPr>
        <p:spPr>
          <a:xfrm flipH="1">
            <a:off x="4309200" y="3090600"/>
            <a:ext cx="166788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23" name=""/>
          <p:cNvGrpSpPr/>
          <p:nvPr/>
        </p:nvGrpSpPr>
        <p:grpSpPr>
          <a:xfrm>
            <a:off x="304920" y="2514600"/>
            <a:ext cx="8991000" cy="1923120"/>
            <a:chOff x="304920" y="2514600"/>
            <a:chExt cx="8991000" cy="1923120"/>
          </a:xfrm>
        </p:grpSpPr>
        <p:sp>
          <p:nvSpPr>
            <p:cNvPr id="324" name=""/>
            <p:cNvSpPr/>
            <p:nvPr/>
          </p:nvSpPr>
          <p:spPr>
            <a:xfrm>
              <a:off x="304920" y="2514600"/>
              <a:ext cx="8434800" cy="182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978600" y="4038840"/>
              <a:ext cx="231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oxel v, time t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5791320" y="466236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760" y="4775040"/>
            <a:ext cx="4571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ntribution to Y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ver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934320" y="609480"/>
            <a:ext cx="2743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Type(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60" y="5384880"/>
            <a:ext cx="4571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ntribution to Y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ver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5791320" y="6095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5T04:39:59Z</dcterms:created>
  <dc:creator>Tom M. Mitchell</dc:creator>
  <dc:description/>
  <dc:language>en-US</dc:language>
  <cp:lastModifiedBy>School of Computer Science</cp:lastModifiedBy>
  <dcterms:modified xsi:type="dcterms:W3CDTF">2006-04-25T01:22:46Z</dcterms:modified>
  <cp:revision>968</cp:revision>
  <dc:subject/>
  <dc:title>PowerPoint Presentation</dc:title>
</cp:coreProperties>
</file>